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6A26-E67B-4AA5-A903-4CDD02FF5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Q4L10 question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hron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persons, captains, etc., who joined themselves to David at Ziklag, v. 1-2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e various prayers of David for God’s hel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eems fitting within the great providential work of God to bring together those people who can be of help, comfort, and encouragement to Dav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s 142:3-4 his Psalm he had sa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my spirit grows faint within 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you who know 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th where I wal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have hidden a snare for 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Look to my right and se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is concerned for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no refu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cares for my life.  N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ok who is coming.  Like the Good Shepherd He is, God is sending David the help he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am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ilistines prepare to attack the Israelites, and Achish informs David that he shall accompany him to battle, v. 1-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ul, unable to obtain any answer from God, goes to a witch at En-dor to bring up Samuel, so that he may converse with him about the war, v. 3-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 that the direction of the witch was far north of where Saul w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o first find where the witch was located, then go to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was not as diligent as he had pretended earlier to rid the land of witches, and he must have know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etting an answer from God, Saul just wants to get any kind of divine answer, anything to confirm what he already wants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erson wants to believe a lie, God will send a strong delusion to help them believe what they want to believe. 2 Thess. 2:10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see a satelite view of the distance between David and S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am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uel appears, v. 12-1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reproaches Saul with his misconduct, and informs him of his approaching ruin, v. 15-1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is greatly distressed; but at the solicitations of the woman and his own servants, he takes some food, and departs the same night, v. 20-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252-19C0-4817-BB10-BF25BB36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D18F-3A17-48EF-8B32-E7261ECD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A60-7991-4FC1-9A49-F55E419B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747-2B6C-4117-B41C-75868798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78AF-246C-43CB-B87B-5C12DFB5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CAB1-EAC0-4646-AD58-D63D066B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A68D-6E22-464B-B250-61A63697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C8A7-6082-43DF-8225-33D3709D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F1A4-A1F3-428D-96D9-0F316826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D72F-7942-4802-917C-5D5D5789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1B5E-B675-4FF9-95F5-4B115D52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48E-BD6B-4A0A-AB22-52369911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BFF0-3984-4B04-A9AD-C15E1EA5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8122-F924-4CE2-94D2-F161BE66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3E53-3E35-4290-AACC-F356FF94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A2EB-5C13-4A30-BFF4-7D78D761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3DF2-6FA0-4472-B039-9CD6B28B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8D6-86D1-46FF-9EC4-03E777B5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A3B-BB7D-47A5-93BE-B7B6EF19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F65-1460-4CBE-BB47-C1C39A44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8E5-4314-43A1-A469-FC02A237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B53-2D87-461C-8E06-559A2109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243-B657-4EFF-9F32-DDBF80AB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2FD-76A5-423B-B5AD-ABFC9FA2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E38D-5766-4865-8C00-C0F3CC31B5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309D-225F-49DF-9298-033AAC67DB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United Kingd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4, Lesson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Chron. 12:1-18; 1 Sam.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41-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lp Comes To Davi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Chron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fferent persons, captains, etc., who joined themselves to David at Ziklag, v. 1-2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David’s Prayers For God’s Help?  Psa.142; 5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971800" y="4419720"/>
            <a:ext cx="838080" cy="6094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228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 Gathers To David at Zik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Desperation of Sau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Sam. 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ilistines prepare to attack the Israel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hish informs David that he shall accompany him to battle, v. 1-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l is unable to obtain any answer from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oes to a witch at En-dor to bring up Samuel, so that he may converse with him about the war, v. 3-1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608040"/>
            <a:ext cx="8915400" cy="578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67080" y="32004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434340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28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ul Had To Go Out of His Way To Find The 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920880"/>
            <a:ext cx="9144000" cy="593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24480" y="2666880"/>
            <a:ext cx="1067040" cy="533520"/>
          </a:xfrm>
          <a:prstGeom prst="ellipse">
            <a:avLst/>
          </a:prstGeom>
          <a:noFill/>
          <a:ln w="572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04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fear of the Philistines, Saul desperately turns to the witch at En 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75160" cy="6912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2895120" y="914400"/>
            <a:ext cx="297180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57040" y="2819520"/>
            <a:ext cx="4267080" cy="2743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400800" y="2590920"/>
            <a:ext cx="1552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Zikla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324480" y="304920"/>
            <a:ext cx="1162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n Do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Coming Doom of Sau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uel appears. v. 12-1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proaches Saul with his miscon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informs him of his approaching ruin . v. 15-1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ul is greatly distressed; but at the solicitations of the woman and his own servants, he takes some food, and departs the same night. v. 20-2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14:14:38Z</dcterms:created>
  <dc:creator>Terry W. Benton</dc:creator>
  <dc:description/>
  <dc:language>en-US</dc:language>
  <cp:lastModifiedBy>Terry W. Benton</cp:lastModifiedBy>
  <dcterms:modified xsi:type="dcterms:W3CDTF">2005-05-03T03:14:12Z</dcterms:modified>
  <cp:revision>4</cp:revision>
  <dc:subject/>
  <dc:title>The United Kingdom</dc:title>
</cp:coreProperties>
</file>